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075-F3FF-41B1-8F2F-95DE66B1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210-6D22-4BD2-ADBB-E770083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825-226E-48E0-A477-38961007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ACC-BE75-44BA-B3E2-905F8E48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F450-9AC2-4AB5-B6D7-BD7063FC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2378-BC50-4B34-B44D-27F1B970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640F-80DF-49B8-A54F-531D567F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9672-799D-461C-AF43-8CBDDCE3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1C3E-A803-44D4-B4CC-725479DE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6B5E-06EA-44AD-AD35-9805DDD2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7D13-6977-43B4-8B45-1D5EB958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AEF-BBBD-45F1-826C-3668D03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549E-F9B8-49A7-84D9-B963D8B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AFF0-55FF-4970-8375-9386584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6DA2-DF31-43E3-A99E-FEB4D5C2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72F8-BA32-42E1-954F-DA4C33ED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0930-EE27-489B-8536-6DB948E4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2C0-C3C0-4EA8-B22B-89B37789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0E3-B91B-47FC-AA87-2AF89111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E19-0738-4DD4-AC48-5E024C0A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A9D-CBFB-4637-9ACE-CFC3B50F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D79-F1F7-4594-BBD0-227CA6B3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D94-2E41-48E3-B72D-FD9541AD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C34-D0FB-4414-934D-25E2A2B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6A51-A399-4EC8-9DD8-B0DB1D7852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E6B-4750-4CC6-9564-34BEF8EF51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ience Choi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447920"/>
          <a:ext cx="7772400" cy="5749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ysical Science or Bi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ology, Chemistry (C or better in Alg I), Botany, Ecology, Zoology, Ag Sciences, Food/Nut.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/Senior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y, Chemistry I (Alg I rec.), Chemistry II (Chem I), Botany, Ecology, Zo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s, Microbiology, Human Anatomy (C or better in Bi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s- C or better in previous science and math, Trig previously or concurr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ual Credit-Seni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are Intro. to Psychology, Sociology, College Algebra/College Trig, College Composition I an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is due the first of August and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test into these classes by taking the COMPASS at CSC, Cumulative GPA of 3.0 required, as well as good attendance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is currently $127/credit hour, most classes are 3 credit hours=$381 (MAT130=4 credits hours=$5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college to see how courses transfer, some colleges require dual credit to be above and beyond their admission requirements, for instance, if they require 4 English credits from high school, ENG101/102 would have to be your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dit of English to transfer to that school ( U of Illinois, Monmouth Colle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ual Credit-Seni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interested, mark the spot on your registration form.  We will set up COMPASS testing for the group through CS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gineering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s of Engine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9-12, Geometry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math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engineering, theory and practical hands-on experiences, design process, mater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eign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I- IV (Four years of high school foreign language may waive the foreign language requirement at some colle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‘C’s or better in Spanish courses to move on to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t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/Adv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ing (need Drawing first)/Adv 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y/Adv C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Methods/Advance Ar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 Art I/ 2 D 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er semester, unless a senior pursuing art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siness/Comput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Fundamen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boarding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I and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 Publishing/Print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 to Agriculture, Basic Ag M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 Science, Basic Ag Mech, PS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cience, Ag Business Op, Basic Ag Mech, PSAA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cience, Ag Business Op, Basic Ag Mech, PSAA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and Consumer Science El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Nutritional Science (science cred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r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Development (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hion Design, Construction, Marketing I an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hip Through Service (9-12, FCCLA memb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ustrial Tech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working I/App Woodworkin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working II/App Woodworkin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illwork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eed Woodworking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. Individual Millworking (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rades I and II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Draf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al Design and Draf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0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to Electricity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to Metals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d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duation Requir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4 credits, must include English I and English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 3 credits, must include Algebra and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 2 credits, Must pass US History I and take US History II, must pass constitu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2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, Music, For. Lang, Vocational at least 1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Education and Consumers Ec ½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½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Foreign Language is not required for graduation, at least 2 years is recommended by most colleges/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s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-Au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turn Forms- Mrs. Lair’s office or mailbox in the off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s- Due Januar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s-Due January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en- Due January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me if you have questions or don’t understand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irst with requirements, then put in your elective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rd course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your registration form, requirements have been added first by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de Level Requir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phom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glish II, US History I, Math, PE, Health, Dr Ed, Cons Ec if not previously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i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ither Adv Gram/Brit Lit or Applied English/Short Topics, US History II, PE,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glish Electives, PE, remaining electives; be sure that you have completed Eng I and Eng II, as well as Algebra and Geometry and a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h cre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ke Up cred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fail a required course, you need to retake it until you pass (Examples: English, Math, History, et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llowed to transfer in up to 2 credits for correspondence courses if they are lacking credits (See Mrs. Lair for de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ppropriate credits, you will not move to the next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red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0-6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 6.5-12.5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 13-19.5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20 and beyond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glis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600200"/>
          <a:ext cx="7772400" cy="51483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- English I and Freshman 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-English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- Adv. Gram/Brit Lit (A’s, B’s, high C’s typically in English) or Applied English/Short Topics (low C’s, D’s, F’s in previous English), also teacher re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s: Novels, WL I or II, Speech (Rec. for senio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- Any of the above, Intro to College Comp or Dual Credit 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14400" y="1617840"/>
            <a:ext cx="7771680" cy="4781520"/>
            <a:chOff x="914400" y="1617840"/>
            <a:chExt cx="7771680" cy="4781520"/>
          </a:xfrm>
        </p:grpSpPr>
        <p:cxnSp>
          <p:nvCxnSpPr>
            <p:cNvPr id="113" name="_s14349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681880" y="2647800"/>
              <a:ext cx="956880" cy="2720880"/>
            </a:xfrm>
            <a:prstGeom prst="bentConnector3">
              <a:avLst>
                <a:gd name="adj1" fmla="val 127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4348"/>
            <p:cNvCxnSpPr>
              <a:stCxn id="117" idx="0"/>
              <a:endCxn id="115" idx="2"/>
            </p:cNvCxnSpPr>
            <p:nvPr/>
          </p:nvCxnSpPr>
          <p:spPr>
            <a:xfrm flipV="1">
              <a:off x="4800240" y="3530160"/>
              <a:ext cx="2880" cy="95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4347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61720" y="2648160"/>
              <a:ext cx="956880" cy="2720880"/>
            </a:xfrm>
            <a:prstGeom prst="bentConnector3">
              <a:avLst>
                <a:gd name="adj1" fmla="val 127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4343"/>
            <p:cNvSpPr/>
            <p:nvPr/>
          </p:nvSpPr>
          <p:spPr>
            <a:xfrm>
              <a:off x="3634560" y="161784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shman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ebra or Alg A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4344"/>
            <p:cNvSpPr/>
            <p:nvPr/>
          </p:nvSpPr>
          <p:spPr>
            <a:xfrm>
              <a:off x="91440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phomore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4345"/>
            <p:cNvSpPr/>
            <p:nvPr/>
          </p:nvSpPr>
          <p:spPr>
            <a:xfrm>
              <a:off x="363456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ebra 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Junior Ma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346"/>
            <p:cNvSpPr/>
            <p:nvPr/>
          </p:nvSpPr>
          <p:spPr>
            <a:xfrm>
              <a:off x="635472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g/St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1617840"/>
            <a:ext cx="7771680" cy="4494600"/>
            <a:chOff x="914400" y="1617840"/>
            <a:chExt cx="7771680" cy="4494600"/>
          </a:xfrm>
        </p:grpSpPr>
        <p:cxnSp>
          <p:nvCxnSpPr>
            <p:cNvPr id="122" name="_s16397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5710320" y="2504160"/>
              <a:ext cx="899640" cy="27208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6"/>
            <p:cNvCxnSpPr>
              <a:stCxn id="126" idx="0"/>
              <a:endCxn id="124" idx="2"/>
            </p:cNvCxnSpPr>
            <p:nvPr/>
          </p:nvCxnSpPr>
          <p:spPr>
            <a:xfrm flipV="1">
              <a:off x="4800240" y="3414960"/>
              <a:ext cx="288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5"/>
            <p:cNvCxnSpPr>
              <a:stCxn id="128" idx="0"/>
              <a:endCxn id="124" idx="2"/>
            </p:cNvCxnSpPr>
            <p:nvPr/>
          </p:nvCxnSpPr>
          <p:spPr>
            <a:xfrm flipH="1" flipV="1" rot="5400000">
              <a:off x="2990520" y="2504520"/>
              <a:ext cx="899640" cy="27208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16391"/>
            <p:cNvSpPr/>
            <p:nvPr/>
          </p:nvSpPr>
          <p:spPr>
            <a:xfrm>
              <a:off x="3634560" y="161784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shman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6392"/>
            <p:cNvSpPr/>
            <p:nvPr/>
          </p:nvSpPr>
          <p:spPr>
            <a:xfrm>
              <a:off x="91440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phomore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 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6393"/>
            <p:cNvSpPr/>
            <p:nvPr/>
          </p:nvSpPr>
          <p:spPr>
            <a:xfrm>
              <a:off x="363456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g/St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6394"/>
            <p:cNvSpPr/>
            <p:nvPr/>
          </p:nvSpPr>
          <p:spPr>
            <a:xfrm>
              <a:off x="635472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h 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- World Ge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- US History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- US History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- Amer. Gov./Amer. Problems (C averag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05:28Z</dcterms:created>
  <dc:creator>jlair</dc:creator>
  <dc:description/>
  <dc:language>en-US</dc:language>
  <cp:lastModifiedBy>jlair</cp:lastModifiedBy>
  <dcterms:modified xsi:type="dcterms:W3CDTF">2010-01-25T14:57:20Z</dcterms:modified>
  <cp:revision>5</cp:revision>
  <dc:subject/>
  <dc:title>Registration</dc:title>
</cp:coreProperties>
</file>