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F00-79BC-44C7-9814-C64B705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327-D3EA-4308-A42D-635971B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03D-98EE-4347-B8D0-E9E30C48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002-EF87-49E9-9B91-1C9AD63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4682-7D90-4F27-A59A-6657287C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A62D-2DFE-4326-9AE0-4163155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31F6-326D-4627-BBCA-A945F0E4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0F52-90F6-44C5-BAD6-65AB40D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C085-EF4A-4CC6-B53A-D49295F7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5B1-BCE3-4D06-B9F1-CC62CA65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F77-08D4-4320-8995-34EC0F34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869-CE1C-4256-995F-52159C56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315D-20F2-4C94-8BCD-BE853C6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4E93-0EE1-4B91-8371-B98CD83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6FB3-F6B4-4B87-9E41-E6554697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CCA3-FBDA-45FE-AC5F-D2E80FD7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D4A6-04B9-402A-AF05-D4E45021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8F6-B7F1-4996-87A1-4200353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7B8-BC5E-4AD4-9424-9C19D51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573-38BF-441F-A2BE-7784B3B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363-CD20-47F3-B454-CE02356C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B46-FC51-43AF-A976-E754B8E1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267-D1FF-47A3-89B1-475D1E1D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B5F-FD02-4BAE-8779-037CE2B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06A-FF78-435F-A3C3-EE26A4BAE8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6D4-9A0E-4134-AF95-0789687194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Choi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447920"/>
          <a:ext cx="7772400" cy="5749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ysical Science or Bi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ology, Chemistry (C or better in Alg I), Botany, Ecology, Zoology, Ag Sciences, Food/Nut.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/Senior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, Chemistry I (Alg I rec.), Chemistry II (Chem I), Botany, Ecology, Zo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s, Microbiology, Human Anatomy (C or better in B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- C or better in previous science and math, Trig previously or concurr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are Intro. to Psychology, Sociology, College Algebra/College Trig, College Composition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due the first of August and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test into these classes by taking the COMPASS at CSC, Cumulative GPA of 3.0 required, as well as good attendanc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currently $127/credit hour, most classes are 3 credit hours=$381 (MAT130=4 credits hours=$5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college to see how courses transfer, some colleges require dual credit to be above and beyond their admission requirements, for instance, if they require 4 English credits from high school, ENG101/102 would have to be your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dit of English to transfer to that school ( U of Illinois, Monmouth Colle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, mark the spot on your registration form.  We will set up COMPASS testing for the group through C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ineerin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9-12, Geometr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ath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engineering, theory and practical hands-on experiences, design process, mater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ign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- IV (Four years of high school foreign language may waive the foreign language requirement at some colle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‘C’s or better in Spanish courses to move on to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t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/Adv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(need Drawing first)/Adv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/Adv C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Methods/Advance Ar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 Art I/ 2 D 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semester, unless a senior pursuing art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/Comput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I an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/Prin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 to Agriculture, Basic Ag M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Science, Basic Ag Mech, PS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and Consumer Science El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Nutritional Science (science cred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Development (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hion Design, Construction, Marketing I a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Through Service (9-12, FCCLA memb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ustrial Tech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/App Woodworkin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I/App Woodwork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illwork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ed Woodworking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. Individual Millworking (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rades I and II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al Design and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Electricity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Metals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d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uation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4 credits, must include English I and 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3 credits, must include Algebra an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 2 credits, Must pass US History I and take US History II, must pass constitu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2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, Music, For. Lang, Vocational at least 1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Education and Consumers Ec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Foreign Language is not required for graduation, at least 2 years is recommended by most colleges/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-Au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turn Forms- Mrs. Lair’s office or mailbox in the off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s- Due Jan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s-Due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en- Due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me if you have questions or don’t understand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irst with requirements, then put in your electiv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rd course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your registration form, requirements have been added first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e Level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om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glish II, US History I, Math, PE, Health, Dr Ed, Cons Ec if not previously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ther Adv Gram/Brit Lit or Applied English/Short Topics, US History II, PE,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lish Electives, PE, remaining electives; be sure that you have completed Eng I and Eng II, as well as Algebra and Geometry and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h cre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ke Up cre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fail a required course, you need to retake it until you pass (Examples: English, Math, History,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llowed to transfer in up to 2 credits for correspondence courses if they are lacking credits (See Mrs. Lai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ppropriate credits, you will not move to the next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red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0-6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6.5-12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13-19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20 and beyond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lis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51483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English I and Freshman 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English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Adv. Gram/Brit Lit (A’s, B’s, high C’s typically in English) or Applied English/Short Topics (low C’s, D’s, F’s in previous English), also teacher re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: Novels, WL I or II, Speech (Rec. for senio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ny of the above, Intro to College Comp or Dual Credit 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1617840"/>
            <a:ext cx="7771680" cy="4781520"/>
            <a:chOff x="914400" y="1617840"/>
            <a:chExt cx="7771680" cy="4781520"/>
          </a:xfrm>
        </p:grpSpPr>
        <p:cxnSp>
          <p:nvCxnSpPr>
            <p:cNvPr id="113" name="_s14349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81880" y="264780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4348"/>
            <p:cNvCxnSpPr>
              <a:stCxn id="117" idx="0"/>
              <a:endCxn id="115" idx="2"/>
            </p:cNvCxnSpPr>
            <p:nvPr/>
          </p:nvCxnSpPr>
          <p:spPr>
            <a:xfrm flipV="1">
              <a:off x="4800240" y="3530160"/>
              <a:ext cx="2880" cy="95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4347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1720" y="264816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4343"/>
            <p:cNvSpPr/>
            <p:nvPr/>
          </p:nvSpPr>
          <p:spPr>
            <a:xfrm>
              <a:off x="3634560" y="161784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or Alg 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>
              <a:off x="91440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5"/>
            <p:cNvSpPr/>
            <p:nvPr/>
          </p:nvSpPr>
          <p:spPr>
            <a:xfrm>
              <a:off x="363456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Junior M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6"/>
            <p:cNvSpPr/>
            <p:nvPr/>
          </p:nvSpPr>
          <p:spPr>
            <a:xfrm>
              <a:off x="635472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1617840"/>
            <a:ext cx="7771680" cy="4494600"/>
            <a:chOff x="914400" y="1617840"/>
            <a:chExt cx="7771680" cy="4494600"/>
          </a:xfrm>
        </p:grpSpPr>
        <p:cxnSp>
          <p:nvCxnSpPr>
            <p:cNvPr id="122" name="_s16397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710320" y="250416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6"/>
            <p:cNvCxnSpPr>
              <a:stCxn id="126" idx="0"/>
              <a:endCxn id="124" idx="2"/>
            </p:cNvCxnSpPr>
            <p:nvPr/>
          </p:nvCxnSpPr>
          <p:spPr>
            <a:xfrm flipV="1">
              <a:off x="4800240" y="3414960"/>
              <a:ext cx="288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5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2990520" y="250452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6391"/>
            <p:cNvSpPr/>
            <p:nvPr/>
          </p:nvSpPr>
          <p:spPr>
            <a:xfrm>
              <a:off x="3634560" y="161784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6392"/>
            <p:cNvSpPr/>
            <p:nvPr/>
          </p:nvSpPr>
          <p:spPr>
            <a:xfrm>
              <a:off x="91440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6393"/>
            <p:cNvSpPr/>
            <p:nvPr/>
          </p:nvSpPr>
          <p:spPr>
            <a:xfrm>
              <a:off x="363456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6394"/>
            <p:cNvSpPr/>
            <p:nvPr/>
          </p:nvSpPr>
          <p:spPr>
            <a:xfrm>
              <a:off x="635472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h 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World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 US Histo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US Histo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mer. Gov./Amer. Problems (C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5:28Z</dcterms:created>
  <dc:creator>jlair</dc:creator>
  <dc:description/>
  <dc:language>en-US</dc:language>
  <cp:lastModifiedBy>jlair</cp:lastModifiedBy>
  <dcterms:modified xsi:type="dcterms:W3CDTF">2010-01-25T14:57:20Z</dcterms:modified>
  <cp:revision>5</cp:revision>
  <dc:subject/>
  <dc:title>Registration</dc:title>
</cp:coreProperties>
</file>