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72C-25F1-41A4-AAA6-18990ADA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761-8109-4A08-B989-2547D725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882-7222-497C-BDF2-8587AAF7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6F8-601F-43E6-B762-1636879D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B7BB-D3F3-45F0-A5A8-7D8AD5FA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1BAA-A336-4106-BA98-FA02F71C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8AEA-A117-47E0-939C-6B04408C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5E36-D891-4417-AAE3-6F8545E3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9F13-5D3E-4B4E-9950-80DC679A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C04F-859E-4838-858A-D80B7BF3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E610-A209-480E-84AD-00A4A172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84E-6E34-47ED-9DBE-34ABF886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4E1C-FE24-44B0-8929-7FC5D83E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05F2-A019-428B-BCE3-6E58DA51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D0BB-487C-47E2-8F1B-07A12AFD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FC7F-4118-47A3-88A8-358F3449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2441-8EB3-477C-A586-999876C8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E53-DF8B-4BEA-904D-0C346643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AEA-8C40-441A-8DF8-46D0E958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D56-796E-4D35-8E61-2A5A2488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4C7-38C5-4CCF-B3D7-AC17E0F1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938-C390-4119-A73A-EB5FE425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097-7010-43CA-BECA-706BB2F2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CFF-0200-4FA5-BEFE-32122109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E70F-061D-4042-B4FE-DD91ED5998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AA5E-2D3D-4F62-B651-DF0BDAAB7E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Registratio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-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ience Choi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447920"/>
          <a:ext cx="7772400" cy="57499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man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hysical Science or Bi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omore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ology, Chemistry (C or better in Alg I), Botany, Ecology, Zoology, Ag Sciences, Food/Nut. Sc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/Senior: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logy, Chemistry I (Alg I rec.), Chemistry II (Chem I), Botany, Ecology, Zo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tics, Microbiology, Human Anatomy (C or better in Bi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s- C or better in previous science and math, Trig previously or concurr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ual Credit-Seni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are Intro. to Psychology, Sociology, College Algebra/College Trig, College Composition I and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ition is due the first of August and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test into these classes by taking the COMPASS at CSC, Cumulative GPA of 3.0 required, as well as good attendance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ition is currently $127/credit hour, most classes are 3 credit hours=$381 (MAT130=4 credits hours=$5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college to see how courses transfer, some colleges require dual credit to be above and beyond their admission requirements, for instance, if they require 4 English credits from high school, ENG101/102 would have to be your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edit of English to transfer to that school ( U of Illinois, Monmouth Colle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ual Credit-Senio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interested, mark the spot on your registration form.  We will set up COMPASS testing for the group through CS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ngineering El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s of Engine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9-12, Geometry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math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engineering, theory and practical hands-on experiences, design process, mater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reign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I- IV (Four years of high school foreign language may waive the foreign language requirement at some colle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‘C’s or better in Spanish courses to move on to the n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t El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/Adv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ing (need Drawing first)/Adv Pa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ul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y/Adv C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Methods/Advance Ar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 Art I/ 2 D 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er semester, unless a senior pursuing art car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usiness/Comput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Fundamen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boarding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ing I and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top Publishing/Print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g El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14400" y="1600200"/>
          <a:ext cx="7772400" cy="465768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 to Agriculture, Basic Ag Me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 Science, Basic Ag Mech, PSA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Science, Ag Business Op, Basic Ag Mech, PSAA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Science, Ag Business Op, Basic Ag Mech, PSAA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amily and Consumer Science Electiv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and Nutritional Science (science cred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r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Development (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hion Design, Construction, Marketing I and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ership Through Service (9-12, FCCLA memb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dustrial Techn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working I/App Woodworkin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working II/App Woodworkin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Millwork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eed Woodworking 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. Individual Millworking (1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rades I and II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Draf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9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al Design and Draf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0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to Electricity (9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to Metals (9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ding (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duation Requir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4 credits, must include English I and English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 3 credits, must include Algebra and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tudies 2 credits, Must pass US History I and take US History II, must pass constitu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2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, Music, For. Lang, Vocational at least 1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 Education and Consumers Ec ½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½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Foreign Language is not required for graduation, at least 2 years is recommended by most colleges/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usic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-Au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turn Forms- Mrs. Lair’s office or mailbox in the offi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ors- Due January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omores-Due January 2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men- Due January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r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me if you have questions or don’t understand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first with requirements, then put in your elective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ord course 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your registration form, requirements have been added first by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de Level Require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phom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glish II, US History I, Math, PE, Health, Dr Ed, Cons Ec if not previously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i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ither Adv Gram/Brit Lit or Applied English/Short Topics, US History II, PE,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i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glish Electives, PE, remaining electives; be sure that you have completed Eng I and Eng II, as well as Algebra and Geometry and a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h cre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ke Up cred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fail a required course, you need to retake it until you pass (Examples: English, Math, History, et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e allowed to transfer in up to 2 credits for correspondence courses if they are lacking credits (See Mrs. Lair for deta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ppropriate credits, you will not move to the next grad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redi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man 0-6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omore 6.5-12.5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or 13-19.5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 20 and beyond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nglish Sequ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600200"/>
          <a:ext cx="7772400" cy="514836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man- English I and Freshman Wr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omore-English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- Adv. Gram/Brit Lit (A’s, B’s, high C’s typically in English) or Applied English/Short Topics (low C’s, D’s, F’s in previous English), also teacher re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s: Novels, WL I or II, Speech (Rec. for senio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- Any of the above, Intro to College Comp or Dual Credit Englis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h Sequ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14400" y="1617840"/>
            <a:ext cx="7771680" cy="4781520"/>
            <a:chOff x="914400" y="1617840"/>
            <a:chExt cx="7771680" cy="4781520"/>
          </a:xfrm>
        </p:grpSpPr>
        <p:cxnSp>
          <p:nvCxnSpPr>
            <p:cNvPr id="113" name="_s14349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681880" y="2647800"/>
              <a:ext cx="956880" cy="2720880"/>
            </a:xfrm>
            <a:prstGeom prst="bentConnector3">
              <a:avLst>
                <a:gd name="adj1" fmla="val 127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4348"/>
            <p:cNvCxnSpPr>
              <a:stCxn id="117" idx="0"/>
              <a:endCxn id="115" idx="2"/>
            </p:cNvCxnSpPr>
            <p:nvPr/>
          </p:nvCxnSpPr>
          <p:spPr>
            <a:xfrm flipV="1">
              <a:off x="4800240" y="3530160"/>
              <a:ext cx="2880" cy="956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4347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961720" y="2648160"/>
              <a:ext cx="956880" cy="2720880"/>
            </a:xfrm>
            <a:prstGeom prst="bentConnector3">
              <a:avLst>
                <a:gd name="adj1" fmla="val 127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4343"/>
            <p:cNvSpPr/>
            <p:nvPr/>
          </p:nvSpPr>
          <p:spPr>
            <a:xfrm>
              <a:off x="3634560" y="1617840"/>
              <a:ext cx="2331360" cy="191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reshman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gebra or Alg A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4344"/>
            <p:cNvSpPr/>
            <p:nvPr/>
          </p:nvSpPr>
          <p:spPr>
            <a:xfrm>
              <a:off x="914400" y="4486680"/>
              <a:ext cx="2331360" cy="191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phomore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4345"/>
            <p:cNvSpPr/>
            <p:nvPr/>
          </p:nvSpPr>
          <p:spPr>
            <a:xfrm>
              <a:off x="3634560" y="4486680"/>
              <a:ext cx="2331360" cy="191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unio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gebra 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Junior Ma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4346"/>
            <p:cNvSpPr/>
            <p:nvPr/>
          </p:nvSpPr>
          <p:spPr>
            <a:xfrm>
              <a:off x="6354720" y="4486680"/>
              <a:ext cx="2331360" cy="19126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io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ig/St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h Sequ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14400" y="1617840"/>
            <a:ext cx="7771680" cy="4494600"/>
            <a:chOff x="914400" y="1617840"/>
            <a:chExt cx="7771680" cy="4494600"/>
          </a:xfrm>
        </p:grpSpPr>
        <p:cxnSp>
          <p:nvCxnSpPr>
            <p:cNvPr id="122" name="_s16397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5710320" y="2504160"/>
              <a:ext cx="899640" cy="272088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6396"/>
            <p:cNvCxnSpPr>
              <a:stCxn id="126" idx="0"/>
              <a:endCxn id="124" idx="2"/>
            </p:cNvCxnSpPr>
            <p:nvPr/>
          </p:nvCxnSpPr>
          <p:spPr>
            <a:xfrm flipV="1">
              <a:off x="4800240" y="3414960"/>
              <a:ext cx="288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6395"/>
            <p:cNvCxnSpPr>
              <a:stCxn id="128" idx="0"/>
              <a:endCxn id="124" idx="2"/>
            </p:cNvCxnSpPr>
            <p:nvPr/>
          </p:nvCxnSpPr>
          <p:spPr>
            <a:xfrm flipH="1" flipV="1" rot="5400000">
              <a:off x="2990520" y="2504520"/>
              <a:ext cx="899640" cy="272088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16391"/>
            <p:cNvSpPr/>
            <p:nvPr/>
          </p:nvSpPr>
          <p:spPr>
            <a:xfrm>
              <a:off x="3634560" y="1617840"/>
              <a:ext cx="2331360" cy="17978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reshman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ome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6392"/>
            <p:cNvSpPr/>
            <p:nvPr/>
          </p:nvSpPr>
          <p:spPr>
            <a:xfrm>
              <a:off x="914400" y="4314600"/>
              <a:ext cx="2331360" cy="17978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phomore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g 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6393"/>
            <p:cNvSpPr/>
            <p:nvPr/>
          </p:nvSpPr>
          <p:spPr>
            <a:xfrm>
              <a:off x="3634560" y="4314600"/>
              <a:ext cx="2331360" cy="17978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unio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ig/St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6394"/>
            <p:cNvSpPr/>
            <p:nvPr/>
          </p:nvSpPr>
          <p:spPr>
            <a:xfrm>
              <a:off x="6354720" y="4314600"/>
              <a:ext cx="2331360" cy="17978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io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th I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istory Seque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hman- World Ge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homore- US History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: World His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- US History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: World His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ior- Amer. Gov./Amer. Problems (C averag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ive: World His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9:05:28Z</dcterms:created>
  <dc:creator>jlair</dc:creator>
  <dc:description/>
  <dc:language>en-US</dc:language>
  <cp:lastModifiedBy>jlair</cp:lastModifiedBy>
  <dcterms:modified xsi:type="dcterms:W3CDTF">2010-01-25T14:57:20Z</dcterms:modified>
  <cp:revision>5</cp:revision>
  <dc:subject/>
  <dc:title>Registration</dc:title>
</cp:coreProperties>
</file>