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975-79C0-4B9C-AFF1-0E9F8BBB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D901-8962-4C13-82F7-38D138B1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C4AA-DC66-42C8-8BEE-30E92412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2F1-878B-423D-9FBB-BC3F3A20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5167-9658-49DD-9402-860C424E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3F5C-27E3-4377-ACD4-6A1BB002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4064-5723-4DC0-90C6-D7A21BEE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A9EB-4541-4277-A71E-251005EF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5EC3-1249-4673-9721-DDC70DCF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B689-910A-4A1C-8921-20017E80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A453-63C2-49F1-923B-55913E2C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A73E-C229-43BC-B76F-FCD6D108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A9C7-7223-4CAF-BF01-E772F610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453A-2A83-4029-A729-E83BCF3A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61AD-7A84-4662-8AE7-80ADD9A9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7071-0C77-4606-A314-C164AD6A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ECDA-D29C-45BF-ABDF-ACC7E4BF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559-B5C2-474A-8A2A-55F8EDE8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A686-6B09-47E2-BC21-374A3254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2E2-699C-4F94-A383-5C7E7465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AB17-EC26-4CBD-9A3B-BF8BDCEF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E0F-6FA9-4EC1-90F3-EA109455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A22-8F7F-4978-B393-1535FC4C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1C8-0BC5-4B87-88AE-2F6E9B4F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0DA0-C2EB-483A-BA6A-978D047779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F755-ED1D-447D-AF81-959F7D3D68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Registration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-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ience Choi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1447920"/>
          <a:ext cx="7772400" cy="574992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hman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hysical Science or Bi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homore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iology, Chemistry (C or better in Alg I), Botany, Ecology, Zoology, Ag Sciences, Food/Nut. Sc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/Senior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logy, Chemistry I (Alg I rec.), Chemistry II (Chem I), Botany, Ecology, Zo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tics, Microbiology, Human Anatomy (C or better in Bi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s- C or better in previous science and math, Trig previously or concurr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ual Credit-Seni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are Intro. to Psychology, Sociology, College Algebra/College Trig, College Composition I and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ition is due the first of August and Dec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test into these classes by taking the COMPASS at CSC, Cumulative GPA of 3.0 required, as well as good attendance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ition is currently $127/credit hour, most classes are 3 credit hours=$381 (MAT130=4 credits hours=$5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college to see how courses transfer, some colleges require dual credit to be above and beyond their admission requirements, for instance, if they require 4 English credits from high school, ENG101/102 would have to be your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redit of English to transfer to that school ( U of Illinois, Monmouth Colle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ual Credit-Seni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interested, mark the spot on your registration form.  We will set up COMPASS testing for the group through CS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ngineering El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les of Engine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s 9-12, Geometry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math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engineering, theory and practical hands-on experiences, design process, materia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reign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I- IV (Four years of high school foreign language may waive the foreign language requirement at some colle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‘C’s or better in Spanish courses to move on to the nex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rt El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/Adv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ing (need Drawing first)/Adv Pa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ulp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y/Adv C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 Methods/Advance Ar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D Art I/ 2 D 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er semester, unless a senior pursuing art car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usiness/Comput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Fundamen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boarding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ing I and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top Publishing/Print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g El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14400" y="1600200"/>
          <a:ext cx="7772400" cy="465768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 to Agriculture, Basic Ag Me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 Science, Basic Ag Mech, PS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al Science, Ag Business Op, Basic Ag Mech, PSAA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 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al Science, Ag Business Op, Basic Ag Mech, PSAA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 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amily and Consumer Science Electiv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and Nutritional Science (science cred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ring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Development (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Care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ing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hion Design, Construction, Marketing I and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ership Through Service (9-12, FCCLA memb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dustrial Technolo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dworking I/App Woodworking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dworking II/App Woodworkin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Millworking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eed Woodworking 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. Individual Millworking (1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Trades I and II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Draf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9-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al Design and Draf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0-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to Electricity (9-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to Metals (9-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ding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duation Require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4 credits, must include English I and English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 3 credits, must include Algebra and 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Studies 2 credits, Must pass US History I and take US History II, must pass constitutio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2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, Music, For. Lang, Vocational at least 1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s Education and Consumers Ec ½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½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Foreign Language is not required for graduation, at least 2 years is recommended by most colleges/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usic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s-Au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turn Forms- Mrs. Lair’s office or mailbox in the offi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ors- Due January 2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ue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omores-Due January 2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men- Due January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ri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me if you have questions or don’t understand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first with requirements, then put in your elective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cord course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your registration form, requirements have been added first by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de Level Require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phom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nglish II, US History I, Math, PE, Health, Dr Ed, Cons Ec if not previously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i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ither Adv Gram/Brit Lit or Applied English/Short Topics, US History II, PE,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i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glish Electives, PE, remaining electives; be sure that you have completed Eng I and Eng II, as well as Algebra and Geometry and a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th cre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ke Up cred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fail a required course, you need to retake it until you pass (Examples: English, Math, History, etc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re allowed to transfer in up to 2 credits for correspondence courses if they are lacking credits (See Mrs. Lair for detai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appropriate credits, you will not move to the next grad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redi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man 0-6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omore 6.5-12.5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or 13-19.5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ior 20 and beyond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nglish Sequ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1600200"/>
          <a:ext cx="7772400" cy="514836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hman- English I and Freshman Wri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homore-English 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- Adv. Gram/Brit Lit (A’s, B’s, high C’s typically in English) or Applied English/Short Topics (low C’s, D’s, F’s in previous English), also teacher re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ves: Novels, WL I or II, Speech (Rec. for senior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ior- Any of the above, Intro to College Comp or Dual Credit Englis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h Sequ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914400" y="1617840"/>
            <a:ext cx="7771680" cy="4781520"/>
            <a:chOff x="914400" y="1617840"/>
            <a:chExt cx="7771680" cy="4781520"/>
          </a:xfrm>
        </p:grpSpPr>
        <p:cxnSp>
          <p:nvCxnSpPr>
            <p:cNvPr id="113" name="_s14349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681880" y="2647800"/>
              <a:ext cx="956880" cy="2720880"/>
            </a:xfrm>
            <a:prstGeom prst="bentConnector3">
              <a:avLst>
                <a:gd name="adj1" fmla="val 127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4348"/>
            <p:cNvCxnSpPr>
              <a:stCxn id="117" idx="0"/>
              <a:endCxn id="115" idx="2"/>
            </p:cNvCxnSpPr>
            <p:nvPr/>
          </p:nvCxnSpPr>
          <p:spPr>
            <a:xfrm flipV="1">
              <a:off x="4800240" y="3530160"/>
              <a:ext cx="2880" cy="956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4347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2961720" y="2648160"/>
              <a:ext cx="956880" cy="2720880"/>
            </a:xfrm>
            <a:prstGeom prst="bentConnector3">
              <a:avLst>
                <a:gd name="adj1" fmla="val 127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4343"/>
            <p:cNvSpPr/>
            <p:nvPr/>
          </p:nvSpPr>
          <p:spPr>
            <a:xfrm>
              <a:off x="3634560" y="1617840"/>
              <a:ext cx="2331360" cy="1912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reshman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gebra or Alg A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4344"/>
            <p:cNvSpPr/>
            <p:nvPr/>
          </p:nvSpPr>
          <p:spPr>
            <a:xfrm>
              <a:off x="914400" y="4486680"/>
              <a:ext cx="2331360" cy="1912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phomore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4345"/>
            <p:cNvSpPr/>
            <p:nvPr/>
          </p:nvSpPr>
          <p:spPr>
            <a:xfrm>
              <a:off x="3634560" y="4486680"/>
              <a:ext cx="2331360" cy="1912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unior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gebra 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Junior Ma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4346"/>
            <p:cNvSpPr/>
            <p:nvPr/>
          </p:nvSpPr>
          <p:spPr>
            <a:xfrm>
              <a:off x="6354720" y="4486680"/>
              <a:ext cx="2331360" cy="1912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nior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ig/St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h Sequ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14400" y="1617840"/>
            <a:ext cx="7771680" cy="4494600"/>
            <a:chOff x="914400" y="1617840"/>
            <a:chExt cx="7771680" cy="4494600"/>
          </a:xfrm>
        </p:grpSpPr>
        <p:cxnSp>
          <p:nvCxnSpPr>
            <p:cNvPr id="122" name="_s16397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5710320" y="2504160"/>
              <a:ext cx="899640" cy="272088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6396"/>
            <p:cNvCxnSpPr>
              <a:stCxn id="126" idx="0"/>
              <a:endCxn id="124" idx="2"/>
            </p:cNvCxnSpPr>
            <p:nvPr/>
          </p:nvCxnSpPr>
          <p:spPr>
            <a:xfrm flipV="1">
              <a:off x="4800240" y="3414960"/>
              <a:ext cx="2880" cy="89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6395"/>
            <p:cNvCxnSpPr>
              <a:stCxn id="128" idx="0"/>
              <a:endCxn id="124" idx="2"/>
            </p:cNvCxnSpPr>
            <p:nvPr/>
          </p:nvCxnSpPr>
          <p:spPr>
            <a:xfrm flipH="1" flipV="1" rot="5400000">
              <a:off x="2990520" y="2504520"/>
              <a:ext cx="899640" cy="272088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16391"/>
            <p:cNvSpPr/>
            <p:nvPr/>
          </p:nvSpPr>
          <p:spPr>
            <a:xfrm>
              <a:off x="3634560" y="1617840"/>
              <a:ext cx="2331360" cy="17978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reshman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6392"/>
            <p:cNvSpPr/>
            <p:nvPr/>
          </p:nvSpPr>
          <p:spPr>
            <a:xfrm>
              <a:off x="914400" y="4314600"/>
              <a:ext cx="2331360" cy="17978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phomore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g 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6393"/>
            <p:cNvSpPr/>
            <p:nvPr/>
          </p:nvSpPr>
          <p:spPr>
            <a:xfrm>
              <a:off x="3634560" y="4314600"/>
              <a:ext cx="2331360" cy="17978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unior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ig/St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6394"/>
            <p:cNvSpPr/>
            <p:nvPr/>
          </p:nvSpPr>
          <p:spPr>
            <a:xfrm>
              <a:off x="6354720" y="4314600"/>
              <a:ext cx="2331360" cy="17978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nior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th I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istory Sequ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600200"/>
          <a:ext cx="7772400" cy="453060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hman- World Geograp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homore- US History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ve: World His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- US History 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ve: World His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ior- Amer. Gov./Amer. Problems (C averag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ve: World His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9:05:28Z</dcterms:created>
  <dc:creator>jlair</dc:creator>
  <dc:description/>
  <dc:language>en-US</dc:language>
  <cp:lastModifiedBy>jlair</cp:lastModifiedBy>
  <dcterms:modified xsi:type="dcterms:W3CDTF">2010-01-25T14:57:20Z</dcterms:modified>
  <cp:revision>5</cp:revision>
  <dc:subject/>
  <dc:title>Registration</dc:title>
</cp:coreProperties>
</file>